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2AB-310D-4339-A9AE-FA9A4C6E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6D7-C8EE-4F38-8855-82443C02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116-6F0B-4C2D-85B6-95FE17DC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AE6-1E89-4918-8FA4-35CF06BA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469-ABB1-43D8-9E15-E374616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C6B-855D-466C-871C-6063C701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AD9-771D-470E-BD5C-17895974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68D-B83F-4F9C-AEE9-8A44CB39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879-1956-4527-80B6-AB1B38E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640-5B18-485A-A9E7-995171D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8B9-832A-40C9-B1F7-5D59CFF2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D12-43F3-4DEE-8167-CE5A41C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72A-0D52-4BC6-BD83-5B764E2B6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tacoast1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11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روحُ القدسُ حلَّ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يومَ </a:t>
            </a:r>
            <a:r>
              <a:rPr b="1" lang="en-US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في الرُسْل الأطهار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روحُ الحقِّ   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تجلّى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  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ي ألسنةٍ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من نـا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ntecost002" descr=""/>
          <p:cNvPicPr/>
          <p:nvPr/>
        </p:nvPicPr>
        <p:blipFill>
          <a:blip r:embed="rId1"/>
          <a:stretch/>
        </p:blipFill>
        <p:spPr>
          <a:xfrm>
            <a:off x="3809880" y="0"/>
            <a:ext cx="559620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73392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اضَ الروحُ البهيُّ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اليومَ في الرُسل الأطهارْ       قـد رآهُ النـبـيّ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ألســنةٍ من نـارْ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o01" descr=""/>
          <p:cNvPicPr/>
          <p:nvPr/>
        </p:nvPicPr>
        <p:blipFill>
          <a:blip r:embed="rId1"/>
          <a:stretch/>
        </p:blipFill>
        <p:spPr>
          <a:xfrm>
            <a:off x="360504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12408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، يا مَن تَقَبّ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ِدْمـاً خِدْمـَةَ الأبـ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نونُ ، تقبَّل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سـتجِبـنا كالأبـر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15:25Z</dcterms:created>
  <dc:creator>SUZANNE.MD</dc:creator>
  <dc:description/>
  <dc:language>en-US</dc:language>
  <cp:lastModifiedBy>SUZANNE.MD</cp:lastModifiedBy>
  <dcterms:modified xsi:type="dcterms:W3CDTF">2003-05-21T09:47:14Z</dcterms:modified>
  <cp:revision>1</cp:revision>
  <dc:subject/>
  <dc:title>PowerPoint Presentation</dc:title>
</cp:coreProperties>
</file>